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3751F-79FF-433C-8B9D-82C2A1DE96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7C443-1D06-4916-A096-99304C5A35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D48EB-D2C9-4872-84BA-3C6E872406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63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74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63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74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125280"/>
            <a:ext cx="475776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30168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9440" y="1639440"/>
            <a:ext cx="4819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Netwo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Do it yourself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Installation Sheet of Active Antenna 1"/>
          <p:cNvPicPr/>
          <p:nvPr/>
        </p:nvPicPr>
        <p:blipFill>
          <a:blip r:embed="rId1"/>
          <a:stretch/>
        </p:blipFill>
        <p:spPr>
          <a:xfrm>
            <a:off x="304920" y="762120"/>
            <a:ext cx="419076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Active Antennas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Installation Sheet of Active Antenna 2"/>
          <p:cNvPicPr/>
          <p:nvPr/>
        </p:nvPicPr>
        <p:blipFill>
          <a:blip r:embed="rId1"/>
          <a:stretch/>
        </p:blipFill>
        <p:spPr>
          <a:xfrm>
            <a:off x="304920" y="685800"/>
            <a:ext cx="40384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5800" y="317160"/>
            <a:ext cx="4794480" cy="3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Connectivity Principles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31560" y="1534680"/>
            <a:ext cx="4802040" cy="15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ds are a mission, not (yet) a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dwidth is perishable – there is excess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.99% availability is not always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toms up along with top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icity is sca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1426"/>
              </a:spcAft>
              <a:buNone/>
              <a:tabLst>
                <a:tab algn="l" pos="0"/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Means of Connectivity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89080" indent="-2563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PC is technology agnostic when it comes to connecting schools and kids to the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63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line, Wireless, Satellite are already and will be used to achieve our connectivity go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63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ksmy, Cambodia: Two-Way Satellite backhaul, local WiFi distribution between 3 schools, WiFi access within the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63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dal, Uruguay: DSL backhaul, Pre-WiMax point-to-point distribution link, WiFi and Mesh access within the school and th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8080"/>
                </a:solidFill>
                <a:latin typeface="Arial"/>
              </a:rPr>
              <a:t>Example: Cellular Operator</a:t>
            </a:r>
            <a:endParaRPr b="1" lang="en-US" sz="1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76" name="Picture 3" descr="cellular-olpc-1"/>
          <p:cNvPicPr/>
          <p:nvPr/>
        </p:nvPicPr>
        <p:blipFill>
          <a:blip r:embed="rId1"/>
          <a:stretch/>
        </p:blipFill>
        <p:spPr>
          <a:xfrm>
            <a:off x="249120" y="1077840"/>
            <a:ext cx="49356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8080"/>
                </a:solidFill>
                <a:latin typeface="Arial"/>
              </a:rPr>
              <a:t>Example: Cellular Operator</a:t>
            </a:r>
            <a:br>
              <a:rPr sz="1800"/>
            </a:br>
            <a:r>
              <a:rPr b="1" lang="en-US" sz="1200" spc="-1" strike="noStrike">
                <a:solidFill>
                  <a:srgbClr val="ff8080"/>
                </a:solidFill>
                <a:latin typeface="Arial"/>
              </a:rPr>
              <a:t>(with added point to multipoint distribution radios)</a:t>
            </a:r>
            <a:endParaRPr b="1" lang="en-US" sz="12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78" name="Picture 3" descr="cellular-olpc-2"/>
          <p:cNvPicPr/>
          <p:nvPr/>
        </p:nvPicPr>
        <p:blipFill>
          <a:blip r:embed="rId1"/>
          <a:stretch/>
        </p:blipFill>
        <p:spPr>
          <a:xfrm>
            <a:off x="208080" y="1077840"/>
            <a:ext cx="502416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Principles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60912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happens by interacting as much as it happens by teaching =&gt; child2child as important as child2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80880" y="13096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4954320" cy="5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Our approach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WiFi network 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h Networking built on top of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mesh2"/>
          <p:cNvPicPr/>
          <p:nvPr/>
        </p:nvPicPr>
        <p:blipFill>
          <a:blip r:embed="rId1"/>
          <a:stretch/>
        </p:blipFill>
        <p:spPr>
          <a:xfrm>
            <a:off x="457200" y="1828800"/>
            <a:ext cx="28195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Our approach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44816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on software (middleware, applications and 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olpc_09_550x413"/>
          <p:cNvPicPr/>
          <p:nvPr/>
        </p:nvPicPr>
        <p:blipFill>
          <a:blip r:embed="rId1"/>
          <a:stretch/>
        </p:blipFill>
        <p:spPr>
          <a:xfrm>
            <a:off x="533520" y="1523880"/>
            <a:ext cx="27432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OLPC Mesh Design Goals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power consum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transparent as possible to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vity/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s NOT replace Access Points – It complements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esh1"/>
          <p:cNvPicPr/>
          <p:nvPr/>
        </p:nvPicPr>
        <p:blipFill>
          <a:blip r:embed="rId1"/>
          <a:stretch/>
        </p:blipFill>
        <p:spPr>
          <a:xfrm>
            <a:off x="380880" y="2514600"/>
            <a:ext cx="1905120" cy="1171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mesh2"/>
          <p:cNvPicPr/>
          <p:nvPr/>
        </p:nvPicPr>
        <p:blipFill>
          <a:blip r:embed="rId2"/>
          <a:stretch/>
        </p:blipFill>
        <p:spPr>
          <a:xfrm>
            <a:off x="3200400" y="2438280"/>
            <a:ext cx="19810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XO Networking Architecture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068640" y="2695680"/>
            <a:ext cx="1494000" cy="704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ctr">
            <a:noAutofit/>
          </a:bodyPr>
          <a:p>
            <a:pPr algn="ctr">
              <a:lnSpc>
                <a:spcPct val="123000"/>
              </a:lnSpc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D LX700 CP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 flipH="1">
            <a:off x="3068640" y="1782720"/>
            <a:ext cx="1494000" cy="374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ctr">
            <a:noAutofit/>
          </a:bodyPr>
          <a:p>
            <a:pPr algn="ctr">
              <a:lnSpc>
                <a:spcPct val="123000"/>
              </a:lnSpc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vell 8388 SoC Rad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857760" y="2157480"/>
            <a:ext cx="0" cy="5382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981600" y="2239920"/>
            <a:ext cx="7873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>
              <a:lnSpc>
                <a:spcPct val="123000"/>
              </a:lnSpc>
              <a:spcBef>
                <a:spcPts val="624"/>
              </a:spcBef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B 2.0 Bu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3814920" y="1409760"/>
            <a:ext cx="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3567240" y="1162080"/>
            <a:ext cx="455400" cy="247680"/>
            <a:chOff x="3567240" y="1162080"/>
            <a:chExt cx="455400" cy="247680"/>
          </a:xfrm>
        </p:grpSpPr>
        <p:sp>
          <p:nvSpPr>
            <p:cNvPr id="151" name="Line 9"/>
            <p:cNvSpPr/>
            <p:nvPr/>
          </p:nvSpPr>
          <p:spPr>
            <a:xfrm flipV="1">
              <a:off x="3815640" y="1162080"/>
              <a:ext cx="20700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 flipH="1" flipV="1">
              <a:off x="3567240" y="1162080"/>
              <a:ext cx="24840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 flipV="1">
              <a:off x="3815640" y="11620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567240" y="1162080"/>
              <a:ext cx="45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Line 13"/>
          <p:cNvSpPr/>
          <p:nvPr/>
        </p:nvSpPr>
        <p:spPr>
          <a:xfrm>
            <a:off x="704880" y="2446200"/>
            <a:ext cx="443700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036800" y="1825560"/>
            <a:ext cx="18666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>
              <a:lnSpc>
                <a:spcPct val="123000"/>
              </a:lnSpc>
              <a:spcBef>
                <a:spcPts val="814"/>
              </a:spcBef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yer 2: Fram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077840" y="2862360"/>
            <a:ext cx="18669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>
              <a:lnSpc>
                <a:spcPct val="123000"/>
              </a:lnSpc>
              <a:spcBef>
                <a:spcPts val="814"/>
              </a:spcBef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yer 3: Packe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Collaboration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ility of students to share documents and directly interact with one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a network connection between the student’s lapto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tional Wireless (802.11b/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h Wireless (802.1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y long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Mesh vs. WiFi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ireless mesh (802.11s) is an extension of traditional WiFi (802.11b/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use the same radio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usable channels around 2.4G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mesh devices (the laptop) interoperate with WiFi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h does not replace WiFi (it extends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Fi should be used at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School WiFi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22384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more WiFi (802.11b/g) access points, connected to a central switch and schoo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2679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cp:lastPrinted>2008-04-01T14:10:37Z</cp:lastPrinted>
  <dcterms:modified xsi:type="dcterms:W3CDTF">2008-09-18T20:09:29Z</dcterms:modified>
  <cp:revision>79</cp:revision>
  <dc:subject/>
  <dc:title>One Laptop per Child</dc:title>
</cp:coreProperties>
</file>